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205-DCEC-4F8C-9914-897340B8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891-005F-4052-81D1-35FC927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FA8-5750-4CEF-B7C4-6CC806B0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7BA-0A1B-4E7C-9D34-C258FB5A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2FB0-F80A-44BE-8DCA-E180CDB1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D90-E25A-4BBC-966D-56D18CD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6338-13FA-4BA1-AF5C-211B93FF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3A11-F7C9-438D-AAA5-5797E333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3A0A-5797-4A86-B193-57FD38B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9A2B-F2CA-4E5A-8119-F1D34559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A62-1830-4B1A-8509-9DF4841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7D8-ABF0-443B-BCDC-67847992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1B4B-F0CC-4607-8740-2FA71F9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A8F8-28FB-4082-949A-018F557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CE30-30B1-47AA-8D85-A606CE2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E53E-A5ED-4465-9C52-A274A382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D05F-4734-4F18-B311-B1A61A33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789-AE7E-43AD-9102-C32A2115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3CB-30D7-40DF-BA65-1ECF7122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4BF-9D83-49A2-BF0B-14CF09B8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0D3-7A29-4D5D-8A8B-A2D790B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810-A87D-473E-925D-4BDCA2C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634-7C28-4005-9157-E8A59049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DEA-5120-474D-88ED-219BB9E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E3C-E92B-4669-BDAB-A44AD62A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2A7-45A5-4D33-8850-637A368552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6.xml"/><Relationship Id="rId24" Type="http://schemas.openxmlformats.org/officeDocument/2006/relationships/slide" Target="slide48.xml"/><Relationship Id="rId25" Type="http://schemas.openxmlformats.org/officeDocument/2006/relationships/slide" Target=""/><Relationship Id="rId26" Type="http://schemas.openxmlformats.org/officeDocument/2006/relationships/slide" Target="slide50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uhaus 93"/>
              </a:rPr>
              <a:t>Frau Harts 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-938160" y="1481040"/>
            <a:ext cx="1078380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Appetit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SCHOOLBOY"/>
              </a:rPr>
              <a:t>Daily Doubl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would you like to risk?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aily Dou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 ist neben ______ Café.  (n)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urbo sitzt auf ______ Stuhl. (m)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Die Gitarre liegt auf ______ Boden (m.)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fährt in _____ Stadt (f)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3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304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prü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7"/>
          <p:cNvSpPr/>
          <p:nvPr/>
        </p:nvSpPr>
        <p:spPr>
          <a:xfrm>
            <a:off x="190512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Präposi-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3809880" y="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Vergangen-heit (waren oder Hatt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4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7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8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9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egente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1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2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3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4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0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1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ch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7772400" y="1523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7772400" y="3581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7772400" y="4724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6">
            <a:hlinkClick r:id="rId25" action="ppaction://hlinksldjump"/>
          </p:cNvPr>
          <p:cNvSpPr/>
          <p:nvPr/>
        </p:nvSpPr>
        <p:spPr>
          <a:xfrm>
            <a:off x="7772400" y="57913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6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setze den Bleistift auf _____ Tisch (m)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________ nicht in der Schule heute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______ ihr Lust in den Park mit Gustav zu gehen?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______ Fieber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iel und Axel ______ bei dem Direktor gester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krank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______ du schon in dem Kino und ______ du “Hunger Games” gesehen?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st  und hattes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chts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nk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üb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t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eh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tzen/ lieg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nt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o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 Besserung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h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ommen/ blieben/stehen/ ist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all acceptab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lernst Addition, Subtraktion, Multiplikation, Division in dieser Klasse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themati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lernst kochen, backen und Budgetplannungen, unter anderen.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uswirtschaf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 gibt Tische, Stühle, Essen und Getränke hier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 Cafeteri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bist nicht in der Schule, aber in der Nähe von der Schule.  Es gibt ein Sportplatz hier, Bäume und frisches Luf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r Schulho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ute haben wir Ostern.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101880" y="2712960"/>
            <a:ext cx="8942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lernst über Elemente, Körper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unktionen und Newt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dieser Klasse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ssenschaf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 gibt acht Kerzen.  Der Tag ist normaleweise in Dezember.   Dieser Feiertag dauert acht Tagen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ohliche Hannukah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ohe Oster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äthe fährt nach Japan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 Fahr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Essen sieht gut aus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Hart</cp:lastModifiedBy>
  <dcterms:modified xsi:type="dcterms:W3CDTF">2012-03-28T00:21:58Z</dcterms:modified>
  <cp:revision>44</cp:revision>
  <dc:subject/>
  <dc:title>PowerPoint Presentation</dc:title>
</cp:coreProperties>
</file>